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074-F07D-49D4-A0B5-8A17671E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055-7723-4C8A-BC95-28B1E2F4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EAC-9C1D-4410-9C90-013D63C2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DF9-5654-492C-9BCB-639DC19B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347-8692-4D65-814F-5EF4C2E8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B78-EDFB-4C84-9113-C488ECFA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804-A615-4700-89FC-6F513267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9A9-354E-4304-B0FC-87B34440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7F2-A1B5-4422-89FA-8208AFA7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969-0831-45E7-9E42-8027B4F5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6B3-F5CC-4022-8E3E-339B2F39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FE7-3D75-4D36-A2AE-FFF4F389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E555-55F8-4831-AE98-7934A233C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6 Milovať chcem ť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svä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e vzd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, česť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dlitby moje k tebe let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klamom hriech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daj zvie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vať chcem ťa, svetl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milosti kým smi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več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tvoje slovo počuje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u mne sa skláňa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koneč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čo ti vrúcne ďakuj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 vďačný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milosti kým smi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 Láska č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, ty svätý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milosť tvoja raj mi chy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myla zo mňa hanbu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 veleb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milosti kým smiem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9:20:57Z</dcterms:modified>
  <cp:revision>21</cp:revision>
  <dc:subject/>
  <dc:title>Je veľký náš Pán, on slávy je Kráľ Nech do všetkých strán  spev vrúcnych znie chvál.</dc:title>
</cp:coreProperties>
</file>